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D24E-A6DE-478F-A156-429193B1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FAA0-FF68-4D76-92BB-3B33AC8F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3FF2-8569-485C-AD95-FB404609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884F-1232-46F7-85BE-3FA63A88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19E8-9083-41DD-9C55-2FD47161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AD52-4079-443D-A751-22BA6AAA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4822-91C4-4685-A1DE-B016BAB9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D65E-D2A5-4385-B251-FEF82A4E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A045-F147-48D7-BCA0-222707F5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421-B5F6-4388-A7BD-BE9262E3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AF2-02F3-4CBE-B043-029E0D5C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C82-CB0C-460C-A35D-F846F5E3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6055-C33E-4BC8-8D1A-CC8CB89A0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hsgrads.wikispaces.com/" TargetMode="External"/><Relationship Id="rId2" Type="http://schemas.openxmlformats.org/officeDocument/2006/relationships/hyperlink" Target="http://rhsgrads.wikispaces.com/" TargetMode="External"/><Relationship Id="rId3" Type="http://schemas.openxmlformats.org/officeDocument/2006/relationships/hyperlink" Target="http://www.ocas.ca/documents/applicant-tutorial-eng.ppt" TargetMode="External"/><Relationship Id="rId4" Type="http://schemas.openxmlformats.org/officeDocument/2006/relationships/hyperlink" Target="http://www.ocas.ca/documents/applicant-tutorial-eng.ppt" TargetMode="External"/><Relationship Id="rId5" Type="http://schemas.openxmlformats.org/officeDocument/2006/relationships/hyperlink" Target="http://www.ocas.ca/documents/applicant-tutorial-eng.ppt" TargetMode="External"/><Relationship Id="rId6" Type="http://schemas.openxmlformats.org/officeDocument/2006/relationships/hyperlink" Target="http://www.ocas.ca/documents/applicant-tutorial-eng.ppt" TargetMode="External"/><Relationship Id="rId7" Type="http://schemas.openxmlformats.org/officeDocument/2006/relationships/hyperlink" Target="http://www.ocas.ca/documents/applicant-tutorial-eng.ppt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228600"/>
            <a:ext cx="57150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HS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pplying to College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pt. 2011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81280" y="4267080"/>
            <a:ext cx="204156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876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my option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 your resear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eck program requi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will you finance your edu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cholarships/Bursaries/Loans/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eet your deadlines. Be sure to complete all steps required – portfolio, entrance exam or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00200" y="53352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ife after high school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440" y="533520"/>
            <a:ext cx="8001000" cy="57909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What are the important dat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Feb 1, 2011 – applications received by this date will be given equal consideration by the colle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May 2, 2011 – applicants must confirm offers of ad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June 15, 2011 – earliest date colleges may require tuition f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153280" cy="6019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eck your academic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must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t us know if you are taking a course outside of regular day school (night school, summer school, e-  learning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eck out the Guidance wiki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hsgrads.wikispace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ca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ca/documents/applicant-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tutoria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-eng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8.   Q &amp;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7:42:51Z</dcterms:created>
  <dc:creator>Customer</dc:creator>
  <dc:description/>
  <dc:language>en-US</dc:language>
  <cp:lastModifiedBy>Customer</cp:lastModifiedBy>
  <dcterms:modified xsi:type="dcterms:W3CDTF">2010-11-03T14:52:53Z</dcterms:modified>
  <cp:revision>18</cp:revision>
  <dc:subject/>
  <dc:title>RHS Applying to University  Sept. 2010  </dc:title>
</cp:coreProperties>
</file>